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D05-35E4-4383-9CC1-7381B346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C17-69E2-4C37-8C99-9C9E9F6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CA6-2683-4036-85A9-252BB33C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DF8-677A-4C7C-8082-C2C50D02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F50-8E37-42BA-830A-B2D4632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CE1-FB03-4170-988F-56BE069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808-995D-4520-A7BE-2BDCFA2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A97-671A-4C92-8398-5F61704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8EA-D158-417D-B88A-E6DC209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98A-8DE9-45DD-A07D-A5A1C1D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CCE-1376-467A-8405-B1AA31CF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6B4-4263-4CFC-AE90-42B56D8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E13A-D369-4475-A768-75F873D11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5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60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19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I have fish. They’re ……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081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0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94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5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6553080" y="1981080"/>
            <a:ext cx="2324160" cy="15811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65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229440" y="2046240"/>
            <a:ext cx="475920" cy="848880"/>
            <a:chOff x="6229440" y="2046240"/>
            <a:chExt cx="475920" cy="848880"/>
          </a:xfrm>
        </p:grpSpPr>
        <p:sp>
          <p:nvSpPr>
            <p:cNvPr id="660" name=""/>
            <p:cNvSpPr/>
            <p:nvPr/>
          </p:nvSpPr>
          <p:spPr>
            <a:xfrm>
              <a:off x="6491520" y="25369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04760" y="27961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9440" y="26416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33920" y="2597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04760" y="229968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14280" y="219492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52360" y="204624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2280" y="11872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That’s a snail. It’s small. …… name is Sa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27432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00600" y="28954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010280" y="358128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67280" y="41148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51814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430400">
            <a:off x="1828080" y="21333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38880" y="10666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90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694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815" dur="5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29400" y="2133720"/>
            <a:ext cx="2076480" cy="156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118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126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21932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.……. names are Lola and S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40" y="10666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56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160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145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553080" y="1981080"/>
            <a:ext cx="2190960" cy="165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186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172200" y="1962000"/>
            <a:ext cx="475920" cy="849240"/>
            <a:chOff x="6172200" y="1962000"/>
            <a:chExt cx="475920" cy="849240"/>
          </a:xfrm>
        </p:grpSpPr>
        <p:sp>
          <p:nvSpPr>
            <p:cNvPr id="194" name=""/>
            <p:cNvSpPr/>
            <p:nvPr/>
          </p:nvSpPr>
          <p:spPr>
            <a:xfrm>
              <a:off x="643428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4752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7668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4752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704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9512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21932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... name is Rob. He’s gree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3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227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234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25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260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2193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Hi! Is this …… ho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19400" y="11145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y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1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295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281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322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330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12193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She’s Lola. I’m ……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066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58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362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377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6629400" y="1990800"/>
            <a:ext cx="2324160" cy="15904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388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396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11430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We have a house. It’s …… sweet h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266688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581280"/>
            <a:ext cx="121896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26668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0292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430400">
            <a:off x="1828080" y="20566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04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26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430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452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1066680" y="2971800"/>
            <a:ext cx="2448000" cy="16858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6629400" y="2000160"/>
            <a:ext cx="2190600" cy="16574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6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581280" y="3200400"/>
            <a:ext cx="475920" cy="848880"/>
            <a:chOff x="3581280" y="3200400"/>
            <a:chExt cx="475920" cy="848880"/>
          </a:xfrm>
        </p:grpSpPr>
        <p:sp>
          <p:nvSpPr>
            <p:cNvPr id="456" name=""/>
            <p:cNvSpPr/>
            <p:nvPr/>
          </p:nvSpPr>
          <p:spPr>
            <a:xfrm>
              <a:off x="3843360" y="369108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56600" y="395028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1280" y="379584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85760" y="37519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56600" y="34538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6120" y="33490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04200" y="32004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464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1219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……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names are Mark and Ji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1066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94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498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534" dur="5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1200240" y="2971800"/>
            <a:ext cx="2533680" cy="19144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523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2280" y="1219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I’m blue. ……name is Bub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9880" y="22860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33526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21337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35812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19810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0430400">
            <a:off x="3047760" y="50284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05120" y="10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553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557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324480" y="266688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3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5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6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7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8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9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630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095880" y="6095880"/>
            <a:ext cx="26672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8153280" y="1828800"/>
            <a:ext cx="857520" cy="48006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324160" cy="1581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762120" y="2724120"/>
            <a:ext cx="3200400" cy="2457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1560600" y="228600"/>
            <a:ext cx="6059520" cy="878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7662960" y="65232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2280" y="728640"/>
            <a:ext cx="125280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943440" y="3341520"/>
            <a:ext cx="475920" cy="849240"/>
            <a:chOff x="3943440" y="3341520"/>
            <a:chExt cx="475920" cy="849240"/>
          </a:xfrm>
        </p:grpSpPr>
        <p:sp>
          <p:nvSpPr>
            <p:cNvPr id="583" name=""/>
            <p:cNvSpPr/>
            <p:nvPr/>
          </p:nvSpPr>
          <p:spPr>
            <a:xfrm>
              <a:off x="4205520" y="383256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8760" y="409176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43440" y="393732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47920" y="38930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18760" y="359496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28280" y="349020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66360" y="334152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229440" y="1962000"/>
            <a:ext cx="475920" cy="849240"/>
            <a:chOff x="6229440" y="1962000"/>
            <a:chExt cx="475920" cy="849240"/>
          </a:xfrm>
        </p:grpSpPr>
        <p:sp>
          <p:nvSpPr>
            <p:cNvPr id="591" name=""/>
            <p:cNvSpPr/>
            <p:nvPr/>
          </p:nvSpPr>
          <p:spPr>
            <a:xfrm>
              <a:off x="6491520" y="245304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760" y="271224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29440" y="255780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33920" y="25135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4760" y="221544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14280" y="211068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52360" y="196200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8229600" y="6477120"/>
            <a:ext cx="8380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76320" y="6552360"/>
            <a:ext cx="8380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7800" y="6172200"/>
            <a:ext cx="838080" cy="3808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4920" y="6095880"/>
            <a:ext cx="26668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601992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6019920"/>
            <a:ext cx="1600200" cy="6858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6324480"/>
            <a:ext cx="838440" cy="381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90920" y="6324480"/>
            <a:ext cx="83808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280" y="12193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They are pink but …….. fins are pur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27432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00600" y="28954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4191120"/>
            <a:ext cx="106668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10280" y="358128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67280" y="4114800"/>
            <a:ext cx="10670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90920" y="51814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487692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0430400">
            <a:off x="228240" y="20574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10430400">
            <a:off x="685080" y="38016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0430400">
            <a:off x="7543080" y="19047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0430400">
            <a:off x="1828080" y="21333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0430400">
            <a:off x="7764480" y="4647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10666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Rounded MT Bold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60958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57040" y="250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Gre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22" name=""/>
          <p:cNvSpPr/>
          <p:nvPr/>
        </p:nvSpPr>
        <p:spPr>
          <a:xfrm rot="10430400">
            <a:off x="2742840" y="2282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0430400">
            <a:off x="4495320" y="68544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0430400">
            <a:off x="6095520" y="15192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8305920" y="4267080"/>
            <a:ext cx="475920" cy="849240"/>
            <a:chOff x="8305920" y="4267080"/>
            <a:chExt cx="475920" cy="849240"/>
          </a:xfrm>
        </p:grpSpPr>
        <p:sp>
          <p:nvSpPr>
            <p:cNvPr id="626" name=""/>
            <p:cNvSpPr/>
            <p:nvPr/>
          </p:nvSpPr>
          <p:spPr>
            <a:xfrm>
              <a:off x="8568000" y="4758120"/>
              <a:ext cx="10188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81240" y="501732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05920" y="4862880"/>
              <a:ext cx="1378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10400" y="4818600"/>
              <a:ext cx="103320" cy="9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81240" y="4520520"/>
              <a:ext cx="103320" cy="9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90760" y="4415760"/>
              <a:ext cx="9108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628840" y="4267080"/>
              <a:ext cx="13644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4495680" y="6019920"/>
            <a:ext cx="1206720" cy="5666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4"/>
          <a:stretch/>
        </p:blipFill>
        <p:spPr>
          <a:xfrm>
            <a:off x="152280" y="1752480"/>
            <a:ext cx="857520" cy="4800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 rot="10430400">
            <a:off x="456480" y="525708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5"/>
          <a:stretch/>
        </p:blipFill>
        <p:spPr>
          <a:xfrm>
            <a:off x="6781680" y="4495680"/>
            <a:ext cx="857520" cy="1828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rot="10430400">
            <a:off x="6870240" y="4735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6"/>
          <a:stretch/>
        </p:blipFill>
        <p:spPr>
          <a:xfrm>
            <a:off x="1600200" y="47242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17"/>
          <a:stretch/>
        </p:blipFill>
        <p:spPr>
          <a:xfrm>
            <a:off x="4038480" y="533412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8"/>
          <a:stretch/>
        </p:blipFill>
        <p:spPr>
          <a:xfrm>
            <a:off x="3200400" y="6172200"/>
            <a:ext cx="790560" cy="4572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19"/>
          <a:stretch/>
        </p:blipFill>
        <p:spPr>
          <a:xfrm>
            <a:off x="2514600" y="617220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0"/>
          <a:stretch/>
        </p:blipFill>
        <p:spPr>
          <a:xfrm>
            <a:off x="6019920" y="5486400"/>
            <a:ext cx="1000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1.48148E-006 L 0.35903 0.00324 E">
                                      <p:cBhvr>
                                        <p:cTn id="719" dur="5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20:46:00Z</dcterms:created>
  <dc:creator>Gabi Sandru</dc:creator>
  <dc:description/>
  <dc:language>en-US</dc:language>
  <cp:lastModifiedBy>Gabi Sandru</cp:lastModifiedBy>
  <dcterms:modified xsi:type="dcterms:W3CDTF">2009-11-22T20:46:05Z</dcterms:modified>
  <cp:revision>1</cp:revision>
  <dc:subject>poss adjectives</dc:subject>
  <dc:title>Possessives</dc:title>
</cp:coreProperties>
</file>